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8904-9A0F-4521-B009-FD54F26E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3652-43E2-4742-BC5D-27144A69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58E2-99A1-4893-BA3A-9A71127E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73EE-AFF3-4933-A5BF-7450FF11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2B2F-C878-4017-84FE-CF93D823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5B4-4049-4A36-86FF-DBD591E1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DD7-686D-4D26-A1DC-D2769F0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910F-5592-4805-8AE8-C40D52FD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720-66AA-4D24-8A6E-AF71264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245-1FA2-433E-8986-BBB267C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93D5-479F-41E0-B4DF-C9D0B26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01F4-B608-4A51-BBAA-E957087D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EF6F-0844-4218-BB2B-3573BDB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0F1-E5B0-4740-9F07-F01A8629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0314-D235-42D5-9272-70CBC9FA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E81-23BA-47C3-950D-D5200B73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063D-6BB6-46A2-ACB4-0F413EFB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235A-A37B-4454-B7B1-4D1AEF23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01A5-255F-4212-86F1-B816C6E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1F08-00C7-4114-BF8A-05DFE331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E281-03BF-42D9-82C9-316796F5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46BE-A675-416D-A2EB-7E1E7A7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BDF3-5DC0-4C3C-B380-1BD1B72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5FE6-7947-4359-893A-8B61C43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712-1911-4FD9-9B17-0BEB12766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6EA3-54A6-4E6E-B40F-5A8D3EC14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Our PLT Research Question: </a:t>
            </a:r>
            <a:br>
              <a:rPr sz="36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How can I create an environment where students feel comfortable and confident enough to offer their own ideas, opinions, reasons, questions and suggestions and believe that these are valued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thleen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da 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riana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remy Moo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niel 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ey V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e V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olcano – Ready to erupt. Speaks before carefully considering what they are saying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$$$ - everyone’s opinion is valued and considered before conclusions are made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590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alking the tightrope – Be prepared to take a risk and involve yourself.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isherman – Waits patiently before sharing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Leech – Sucks the blood out of everyone else’s ideas. Takes information but doesn’t contribut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nningD</cp:lastModifiedBy>
  <dcterms:modified xsi:type="dcterms:W3CDTF">2009-04-01T21:34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